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6CF4-4076-44F5-A245-7231EC97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t Coast of Can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d Labrador Current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 Coast of Canada: warm North Pacific Current heats the air passing over it (milder coa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amount of sunlight spreads over a larger area near the poles than near the equator.  when spread over a larger area, the insolation per unit area is decreased, leading to cooler temperatures away from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 (temp decreases with alt); stratosphere (temp increases with alt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FD1-F022-4325-8471-24F764E9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D8A-392C-4056-92BF-7046D276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A14-310C-4A5B-86E2-7F7EA8B7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C41-59EF-4AF1-8C6E-7162E1B1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400-ACF9-41ED-93B8-6D75EA91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979-C32E-4CCC-9212-336B8631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98C-FA26-413B-8DC5-AC5E5D37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E2F-9ADE-4FBC-B51B-BBE8214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A9B-D33D-463E-8CF3-ACEDE12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6C1-AC56-4807-B63E-C41CADE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54-90E4-4E12-A70B-7D3464CC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949-808A-4010-B5D5-92FE183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BD10-0831-470F-BBF1-290536D0E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m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e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e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557360"/>
            <a:ext cx="828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mperatures continue to descend about -1 degree Celsius per 100 metres until you reach the tropopause (after that, things get wonk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is called the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(Dry) Temperature Lapse Rat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933720"/>
            <a:ext cx="828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hen evaporation starts to occur, temperatures descend at only -0.6 degrees Celsius per 100 me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is called the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(Wet) Temperature Lapse Rat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elie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938160"/>
            <a:ext cx="939636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elie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319640" cy="364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413000"/>
            <a:ext cx="3960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fers to differences in elevation on the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lief acts 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 MT"/>
              </a:rPr>
              <a:t>barrier system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for the movement of air masses (win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869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eing at a high elevation affects climate, but so does being at a low elevation with high elevations around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elie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8088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earness to Wa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4842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820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earness to Wa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797360"/>
            <a:ext cx="3692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ransparency (dep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luidity (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557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48428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967280" cy="3552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1341360"/>
            <a:ext cx="324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ater is awesome.  It has many qualities that affect heat absorption and radi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600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486900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9640" y="4797360"/>
            <a:ext cx="482436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vaporation (phase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Higher Hea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atitu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5690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atitu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459640" cy="3983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357720"/>
            <a:ext cx="53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amount of sunlight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never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v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t spreads over larger areas near the poles because of the curve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 larger area means a wider distribution of the limited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Ocean Curr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407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Ocean Curr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5257800" cy="2911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052640"/>
            <a:ext cx="338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mperature of ocean current affects temperature of air that passes ove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air warms or cools the land near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3933720"/>
            <a:ext cx="698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5653080"/>
            <a:ext cx="849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ast Coast of Canada: cold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Labrador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est Coast of Canada: warm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North Pacif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" y="5141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56288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052640"/>
            <a:ext cx="316836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ir travels from areas of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high pressur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low pressur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s travel is what we call w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se differences in pressure are caused by uneven heating of the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4464000" cy="368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148360" y="5013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veyor belt of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095800" cy="54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96000" y="10000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ind named after the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direction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from which it flows i.e. 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Westerlie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come from the 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3933720"/>
            <a:ext cx="309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inds around the Equator are called “</a:t>
            </a: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trade wind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”, and are also named for the direction they come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Winds (and Pressur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8760" y="4816440"/>
            <a:ext cx="67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842472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ome ter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Prevailing Wind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– a well-established pattern of winds that blow from west to east (in Canada).  These move the air masses that affect our we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Jet Stream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– a current of fast-moving air high in the atmosphere (close to the tropopause, beyond which is little to no weather at all).  Moves 300-500 km/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Gill Sans MT"/>
              </a:rPr>
              <a:t>Coriolis Effect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– The deflection of moving objects (wind!) due to the Earth’s rotation.  Angles away from the Equ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9:45:53Z</dcterms:created>
  <dc:creator>Stefan</dc:creator>
  <dc:description/>
  <dc:language>en-US</dc:language>
  <cp:lastModifiedBy>C39660</cp:lastModifiedBy>
  <dcterms:modified xsi:type="dcterms:W3CDTF">2014-04-17T12:59:54Z</dcterms:modified>
  <cp:revision>73</cp:revision>
  <dc:subject/>
  <dc:title>Climate Factors</dc:title>
</cp:coreProperties>
</file>